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467-E347-430C-854F-EF08906F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5FC-B77C-407C-A551-23A57521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E81-49B6-40CB-9E80-B2783314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BDB-34AF-4AD9-90DE-320695B1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E16-D183-4676-A4F0-E86AD84B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B3A-C340-4320-BE4E-D06A53E3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FD6-5E7A-4648-8D5E-B414D2BE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451-CE2F-45EE-BC39-41863099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1F7-2BA9-4B0C-AD7D-487EC7FD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89C-8B99-4AFF-B6AC-0706C6B4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771-8FAF-42A1-9DBD-F750B8CA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E12-93AB-44ED-B986-8EB90E63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595D-D3B9-4F7E-85C7-11FCE16369A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GENESIS OF FORMS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040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1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egnaposto contenuto 4" descr="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555640" y="1844280"/>
            <a:ext cx="404172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BEGINNING ... EVERYTHING WAS DAR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Segnaposto contenuto 5" descr="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ASS OF EARTH SHATTERED AND FORMED PLANET EAR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ALL OF FIRE IS CUT '... AND THERE WAS' THE LIGH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Segnaposto contenuto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8" name="Segnaposto contenuto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4040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RN LIFE ON EARTH: PEOP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 THE MAN THE FORMS ON EARTH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Segnaposto contenuto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Segnaposto contenuto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D EVEN THE SKY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ATURE!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RYTHING HAS A FORM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5" name="Segnaposto contenuto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THE FORM 'S BEAUTIFUL AND WHY THE RAINBOW JOIN PEOPLE OF THE EARTH PEACE IN THE WORL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6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29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NESI DELLE FORM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TRODUZIONE DELLE FIGURE GEOMETRICHE PIANE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TORIA ELABORATA DAI BAMBINI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NESIS OF THE SHAP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F FIGURES INTRODUCTION GEOMETRIC PLAN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ORY DEVELOPED BY CHILDREN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SCUOLA DELL’INFANZIA «L.DA VINCI» TRAPA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SICILI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SEZ. A INS. MINAUDO FRANCES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KINDERGARTENS "L.DA VINCI" TRAPANI</a:t>
            </a:r>
            <a:br>
              <a:rPr sz="1700"/>
            </a:b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SICILY</a:t>
            </a:r>
            <a:br>
              <a:rPr sz="1700"/>
            </a:b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SEZ. A INS. Minaudo FRANCES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18:13:37Z</dcterms:created>
  <dc:creator>Francesca</dc:creator>
  <dc:description/>
  <dc:language>en-US</dc:language>
  <cp:lastModifiedBy>.</cp:lastModifiedBy>
  <dcterms:modified xsi:type="dcterms:W3CDTF">2012-04-29T22:25:26Z</dcterms:modified>
  <cp:revision>10</cp:revision>
  <dc:subject/>
  <dc:title>GENESI DELLE FORME</dc:title>
</cp:coreProperties>
</file>